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B3B2-DA64-4F97-A7C5-D761CA9A1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BA57-792D-4430-96DD-5EBF50806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DD6E-86FC-479C-8EF6-B6B85F99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3BDE-987C-4780-A942-81E5833F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1027-510E-4F41-BEA6-07DBE4E9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29EE-C256-499C-9F61-0ABABBB4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4B7A-A346-4F9A-A054-FE20F842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0E5B-D710-4ABF-AEC8-B21C471E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7016-B263-4BAC-8B6E-7038409D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C486-37DE-4024-A377-04CF57B7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395D-D78A-4C06-B27C-C7F7737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5B8F-B025-4944-B576-68E0B210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8092-5BE3-47F6-AAEB-BC335752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018D-1AEC-433D-9623-CE98F58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A976-EB5E-4604-8E9C-26CA480D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C359-8740-4EFA-9E23-D8EFC82A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D8BF-A883-407E-BBAA-25ADB2B3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A8A2-47C9-4704-8347-E9A5EE2A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FAE9-8B55-4CA9-835E-FE4205D2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8ADE-A871-4117-B389-1D6BFF74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49BC-A23D-4BA9-AD66-DC12417C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204E-C3FC-4622-8C4A-4F14CDEE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FE4C-6CC7-4E00-B9B3-4CA28ED8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9EE2-3DF0-41B3-ADF9-509EF0E7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F051-8286-436B-A260-19AC2CF2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3875-245E-4232-B07F-E8947489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20AF-E7D4-48E9-AD34-442626651F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1F32-E25A-4892-A44C-C5BCF4EE5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(3-1)Parallel Lines and Transvers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d Pages 171-17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638680" y="3276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, GH, 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81480" y="2438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segments parallel to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7010280" y="281952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6873840" y="3308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6324480" y="3308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5715000" y="3308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8" descr=""/>
          <p:cNvPicPr/>
          <p:nvPr/>
        </p:nvPicPr>
        <p:blipFill>
          <a:blip r:embed="rId1"/>
          <a:stretch/>
        </p:blipFill>
        <p:spPr>
          <a:xfrm>
            <a:off x="762120" y="2328840"/>
            <a:ext cx="41907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181480" y="25146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segments that intersect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267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181480" y="25146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segments that intersect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16"/>
          <p:cNvGraphicFramePr/>
          <p:nvPr/>
        </p:nvGraphicFramePr>
        <p:xfrm>
          <a:off x="5605560" y="3886200"/>
          <a:ext cx="2809800" cy="13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560" y="3886200"/>
                    <a:ext cx="280980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29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42037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181480" y="25146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lines skew to G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5594400" y="294336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728640" y="2362320"/>
            <a:ext cx="4267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181480" y="212076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lines skew to G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594400" y="254952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5486400" y="2819520"/>
          <a:ext cx="2438280" cy="120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819520"/>
                    <a:ext cx="243828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12"/>
          <p:cNvSpPr/>
          <p:nvPr/>
        </p:nvSpPr>
        <p:spPr>
          <a:xfrm>
            <a:off x="4648320" y="440676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egments HE, AD, and BC are || or in the same plane.  Segments GH, EF, BG and CF intersect and are in the same plane.  These segments ar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kew to G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6162840" y="446400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37400" y="446400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7924680" y="446400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6781680" y="518148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200640" y="518148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6400800" y="628020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7391520" y="518148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8458200" y="518148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7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9700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ransversal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600200" y="2057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transversal is a line which intersects two or more lines in a plane.  The intersected lines do not have to b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4648320" cy="2835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2"/>
          <p:cNvSpPr/>
          <p:nvPr/>
        </p:nvSpPr>
        <p:spPr>
          <a:xfrm>
            <a:off x="5867280" y="35053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ines j, k, and m are intersected by line t.  Therefore, line t is a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transversal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lines j, k, and 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16765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447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2133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9051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971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8670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33526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2767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5410080" y="22096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x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ex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cut by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410080" y="431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ex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6"/>
          <p:cNvGraphicFramePr/>
          <p:nvPr/>
        </p:nvGraphicFramePr>
        <p:xfrm>
          <a:off x="5410080" y="4952880"/>
          <a:ext cx="335304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952880"/>
                    <a:ext cx="33530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16765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447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133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19051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971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8670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3526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32767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5410080" y="22096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cut by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410080" y="431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in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16"/>
          <p:cNvGraphicFramePr/>
          <p:nvPr/>
        </p:nvGraphicFramePr>
        <p:xfrm>
          <a:off x="5394240" y="4952880"/>
          <a:ext cx="338472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4240" y="4952880"/>
                    <a:ext cx="3384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14479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2193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9051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6765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7432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6384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31240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048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5181480" y="2209680"/>
            <a:ext cx="381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secutive in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and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4419720" y="431496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secutive in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6"/>
          <p:cNvGraphicFramePr/>
          <p:nvPr/>
        </p:nvGraphicFramePr>
        <p:xfrm>
          <a:off x="5638680" y="4800600"/>
          <a:ext cx="286884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4800600"/>
                    <a:ext cx="28688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"/>
          <p:cNvSpPr/>
          <p:nvPr/>
        </p:nvSpPr>
        <p:spPr>
          <a:xfrm>
            <a:off x="16765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1447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2133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9051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971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8670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3526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2767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5410080" y="22096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ternate in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and on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s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4800600" y="4267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ternate in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16"/>
          <p:cNvGraphicFramePr/>
          <p:nvPr/>
        </p:nvGraphicFramePr>
        <p:xfrm>
          <a:off x="5622840" y="4800600"/>
          <a:ext cx="290052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2840" y="4800600"/>
                    <a:ext cx="2900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7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724640" cy="2651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"/>
          <p:cNvPicPr/>
          <p:nvPr/>
        </p:nvPicPr>
        <p:blipFill>
          <a:blip r:embed="rId2"/>
          <a:stretch/>
        </p:blipFill>
        <p:spPr>
          <a:xfrm>
            <a:off x="1600200" y="3843360"/>
            <a:ext cx="174600" cy="165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"/>
          <p:cNvPicPr/>
          <p:nvPr/>
        </p:nvPicPr>
        <p:blipFill>
          <a:blip r:embed="rId3"/>
          <a:stretch/>
        </p:blipFill>
        <p:spPr>
          <a:xfrm>
            <a:off x="1749600" y="4505400"/>
            <a:ext cx="174600" cy="164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hat would you call two lines which do not inter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105520" y="2286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81480" y="30481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solid arrow placed on two lines of a diagram indicate the lines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3886200" y="4800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symbol  ||  is used to indicate parallel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34340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B  || 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4419720" y="5715000"/>
            <a:ext cx="43956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5334120" y="5715000"/>
            <a:ext cx="43956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16765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447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133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19051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971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8670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33526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32767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5410080" y="22096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ternate ex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ex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and on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s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4648320" y="42670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ternate ex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16"/>
          <p:cNvGraphicFramePr/>
          <p:nvPr/>
        </p:nvGraphicFramePr>
        <p:xfrm>
          <a:off x="5654520" y="4800600"/>
          <a:ext cx="283716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4520" y="4800600"/>
                    <a:ext cx="28371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14479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12193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9051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6765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27432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26384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31240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3048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181480" y="2209680"/>
            <a:ext cx="381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secutive in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and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4419720" y="431496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secutive in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6"/>
          <p:cNvGraphicFramePr/>
          <p:nvPr/>
        </p:nvGraphicFramePr>
        <p:xfrm>
          <a:off x="5638680" y="4800600"/>
          <a:ext cx="286884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4800600"/>
                    <a:ext cx="28688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14479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2193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9051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765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27432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26384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1240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048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181480" y="1676520"/>
            <a:ext cx="381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rresponding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corresponding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 of the two lines and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4952880" y="3886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rresponding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16"/>
          <p:cNvGraphicFramePr/>
          <p:nvPr/>
        </p:nvGraphicFramePr>
        <p:xfrm>
          <a:off x="5591160" y="4267080"/>
          <a:ext cx="2965320" cy="225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91160" y="4267080"/>
                    <a:ext cx="2965320" cy="22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1" descr=""/>
          <p:cNvPicPr/>
          <p:nvPr/>
        </p:nvPicPr>
        <p:blipFill>
          <a:blip r:embed="rId1"/>
          <a:stretch/>
        </p:blipFill>
        <p:spPr>
          <a:xfrm>
            <a:off x="247680" y="3243240"/>
            <a:ext cx="4724280" cy="33098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7"/>
          <p:cNvSpPr/>
          <p:nvPr/>
        </p:nvSpPr>
        <p:spPr>
          <a:xfrm>
            <a:off x="5029200" y="44197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.       2 and      10 are alternate 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34"/>
          <p:cNvGraphicFramePr/>
          <p:nvPr/>
        </p:nvGraphicFramePr>
        <p:xfrm>
          <a:off x="6858000" y="4387680"/>
          <a:ext cx="501480" cy="4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0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87680"/>
                    <a:ext cx="5014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8380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219320" y="4025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752480" y="3949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429000" y="379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3962520" y="3720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3886200" y="417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429000" y="42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1905120" y="4406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1447920" y="4406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1752480" y="5168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2209680" y="5245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3048120" y="5321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65760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505320" y="5778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2895480" y="5778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2376360" y="57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828800" y="5778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371600" y="2133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termine if the statement is true or false.  If false, correc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5105520" y="28195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ine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is a transversal of lines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8"/>
          <p:cNvSpPr/>
          <p:nvPr/>
        </p:nvSpPr>
        <p:spPr>
          <a:xfrm>
            <a:off x="5257800" y="35812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– Lin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ntersects both lines in a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0"/>
          <p:cNvGraphicFramePr/>
          <p:nvPr/>
        </p:nvGraphicFramePr>
        <p:xfrm>
          <a:off x="5562720" y="4400640"/>
          <a:ext cx="45720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4400640"/>
                    <a:ext cx="457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36"/>
          <p:cNvSpPr/>
          <p:nvPr/>
        </p:nvSpPr>
        <p:spPr>
          <a:xfrm>
            <a:off x="5334120" y="52736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 - The angles are corresponding angles on transversal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1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724280" cy="33098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25"/>
          <p:cNvSpPr/>
          <p:nvPr/>
        </p:nvSpPr>
        <p:spPr>
          <a:xfrm>
            <a:off x="4952880" y="4511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 1 and      15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5105520" y="20574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3 and      5 are alternate 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27"/>
          <p:cNvGraphicFramePr/>
          <p:nvPr/>
        </p:nvGraphicFramePr>
        <p:xfrm>
          <a:off x="6813720" y="2111400"/>
          <a:ext cx="3492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3720" y="2111400"/>
                    <a:ext cx="3492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29"/>
          <p:cNvGraphicFramePr/>
          <p:nvPr/>
        </p:nvGraphicFramePr>
        <p:xfrm>
          <a:off x="6778800" y="4572000"/>
          <a:ext cx="38088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78800" y="457200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4"/>
          <p:cNvSpPr/>
          <p:nvPr/>
        </p:nvSpPr>
        <p:spPr>
          <a:xfrm>
            <a:off x="762120" y="8380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38080" y="1066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219320" y="356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752480" y="3492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3429000" y="334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3962520" y="3263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3886200" y="3720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3429000" y="379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19051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14479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1752480" y="4711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209680" y="4788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3048120" y="4863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3657600" y="4863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8"/>
          <p:cNvSpPr/>
          <p:nvPr/>
        </p:nvSpPr>
        <p:spPr>
          <a:xfrm>
            <a:off x="3505320" y="5321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289548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2362320" y="5245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182880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137160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termine if the statement is true or false.  If false, correc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5334120" y="2971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 – The angles are vertical angles created by the intersection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Object 26"/>
          <p:cNvGraphicFramePr/>
          <p:nvPr/>
        </p:nvGraphicFramePr>
        <p:xfrm>
          <a:off x="5483160" y="4495680"/>
          <a:ext cx="45720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4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3160" y="4495680"/>
                    <a:ext cx="457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Text Box 28"/>
          <p:cNvSpPr/>
          <p:nvPr/>
        </p:nvSpPr>
        <p:spPr>
          <a:xfrm>
            <a:off x="5334120" y="5334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- The angles are alternate exterior angles on transversal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34"/>
          <p:cNvGraphicFramePr/>
          <p:nvPr/>
        </p:nvGraphicFramePr>
        <p:xfrm>
          <a:off x="5565600" y="2101680"/>
          <a:ext cx="38124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7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5600" y="2101680"/>
                    <a:ext cx="3812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36" descr=""/>
          <p:cNvPicPr/>
          <p:nvPr/>
        </p:nvPicPr>
        <p:blipFill>
          <a:blip r:embed="rId1"/>
          <a:stretch/>
        </p:blipFill>
        <p:spPr>
          <a:xfrm>
            <a:off x="247680" y="2743200"/>
            <a:ext cx="4724280" cy="33098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"/>
          <p:cNvSpPr/>
          <p:nvPr/>
        </p:nvSpPr>
        <p:spPr>
          <a:xfrm>
            <a:off x="4724280" y="45115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 10 and      11 are consecutive 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5105520" y="20574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6 and      12 are alternate 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6"/>
          <p:cNvGraphicFramePr/>
          <p:nvPr/>
        </p:nvGraphicFramePr>
        <p:xfrm>
          <a:off x="6813720" y="2111400"/>
          <a:ext cx="3492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3720" y="2111400"/>
                    <a:ext cx="3492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7"/>
          <p:cNvGraphicFramePr/>
          <p:nvPr/>
        </p:nvGraphicFramePr>
        <p:xfrm>
          <a:off x="6740640" y="4572000"/>
          <a:ext cx="38088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40640" y="457200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8"/>
          <p:cNvSpPr/>
          <p:nvPr/>
        </p:nvSpPr>
        <p:spPr>
          <a:xfrm>
            <a:off x="762120" y="8380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838080" y="1066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219320" y="356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752480" y="3492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3429000" y="334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3962520" y="3263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3886200" y="3720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3429000" y="379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19051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14479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1752480" y="4711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2209680" y="4788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0"/>
          <p:cNvSpPr/>
          <p:nvPr/>
        </p:nvSpPr>
        <p:spPr>
          <a:xfrm>
            <a:off x="3048120" y="4863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3657600" y="4863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3505320" y="5321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289548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362320" y="5245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182880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137160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termine if the statement is true or false.  If false, correc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5334120" y="2971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– The angles are alternate interior angles on 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28"/>
          <p:cNvGraphicFramePr/>
          <p:nvPr/>
        </p:nvGraphicFramePr>
        <p:xfrm>
          <a:off x="5257800" y="4495680"/>
          <a:ext cx="45720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4495680"/>
                    <a:ext cx="457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Text Box 29"/>
          <p:cNvSpPr/>
          <p:nvPr/>
        </p:nvSpPr>
        <p:spPr>
          <a:xfrm>
            <a:off x="5334120" y="5334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– The angles are consecutive interior angles on 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30"/>
          <p:cNvGraphicFramePr/>
          <p:nvPr/>
        </p:nvGraphicFramePr>
        <p:xfrm>
          <a:off x="5565600" y="2101680"/>
          <a:ext cx="38124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0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5600" y="2101680"/>
                    <a:ext cx="3812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36" descr=""/>
          <p:cNvPicPr/>
          <p:nvPr/>
        </p:nvPicPr>
        <p:blipFill>
          <a:blip r:embed="rId1"/>
          <a:stretch/>
        </p:blipFill>
        <p:spPr>
          <a:xfrm>
            <a:off x="247680" y="2786040"/>
            <a:ext cx="4724280" cy="33098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26"/>
          <p:cNvSpPr/>
          <p:nvPr/>
        </p:nvSpPr>
        <p:spPr>
          <a:xfrm>
            <a:off x="137160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termine if the statement is true or false.  If false, correc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4876920" y="20574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3 and      4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724280" y="45115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 16 and      14 are corresponding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6"/>
          <p:cNvGraphicFramePr/>
          <p:nvPr/>
        </p:nvGraphicFramePr>
        <p:xfrm>
          <a:off x="6613560" y="2111400"/>
          <a:ext cx="3492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3560" y="2111400"/>
                    <a:ext cx="3492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7"/>
          <p:cNvGraphicFramePr/>
          <p:nvPr/>
        </p:nvGraphicFramePr>
        <p:xfrm>
          <a:off x="6740640" y="4572000"/>
          <a:ext cx="38088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40640" y="457200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 Box 8"/>
          <p:cNvSpPr/>
          <p:nvPr/>
        </p:nvSpPr>
        <p:spPr>
          <a:xfrm>
            <a:off x="762120" y="8380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838080" y="1066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1219320" y="356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1752480" y="3492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3429000" y="334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3"/>
          <p:cNvSpPr/>
          <p:nvPr/>
        </p:nvSpPr>
        <p:spPr>
          <a:xfrm>
            <a:off x="3962520" y="3263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3886200" y="3720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5"/>
          <p:cNvSpPr/>
          <p:nvPr/>
        </p:nvSpPr>
        <p:spPr>
          <a:xfrm>
            <a:off x="3429000" y="379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6"/>
          <p:cNvSpPr/>
          <p:nvPr/>
        </p:nvSpPr>
        <p:spPr>
          <a:xfrm>
            <a:off x="19051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14479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1752480" y="4711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9"/>
          <p:cNvSpPr/>
          <p:nvPr/>
        </p:nvSpPr>
        <p:spPr>
          <a:xfrm>
            <a:off x="2209680" y="4788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0"/>
          <p:cNvSpPr/>
          <p:nvPr/>
        </p:nvSpPr>
        <p:spPr>
          <a:xfrm>
            <a:off x="3048120" y="4863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1"/>
          <p:cNvSpPr/>
          <p:nvPr/>
        </p:nvSpPr>
        <p:spPr>
          <a:xfrm>
            <a:off x="3657600" y="4863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2"/>
          <p:cNvSpPr/>
          <p:nvPr/>
        </p:nvSpPr>
        <p:spPr>
          <a:xfrm>
            <a:off x="3505320" y="5321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3"/>
          <p:cNvSpPr/>
          <p:nvPr/>
        </p:nvSpPr>
        <p:spPr>
          <a:xfrm>
            <a:off x="289548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4"/>
          <p:cNvSpPr/>
          <p:nvPr/>
        </p:nvSpPr>
        <p:spPr>
          <a:xfrm>
            <a:off x="2362320" y="5316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5"/>
          <p:cNvSpPr/>
          <p:nvPr/>
        </p:nvSpPr>
        <p:spPr>
          <a:xfrm>
            <a:off x="182880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7"/>
          <p:cNvSpPr/>
          <p:nvPr/>
        </p:nvSpPr>
        <p:spPr>
          <a:xfrm>
            <a:off x="5334120" y="2971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 – The angles are a linear pair with linear rays on lin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Object 28"/>
          <p:cNvGraphicFramePr/>
          <p:nvPr/>
        </p:nvGraphicFramePr>
        <p:xfrm>
          <a:off x="5257800" y="4495680"/>
          <a:ext cx="45720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0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4495680"/>
                    <a:ext cx="457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29"/>
          <p:cNvSpPr/>
          <p:nvPr/>
        </p:nvSpPr>
        <p:spPr>
          <a:xfrm>
            <a:off x="5334120" y="5334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– The angles are corresponding on 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30"/>
          <p:cNvGraphicFramePr/>
          <p:nvPr/>
        </p:nvGraphicFramePr>
        <p:xfrm>
          <a:off x="5334120" y="2101680"/>
          <a:ext cx="38088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4120" y="210168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88920" y="208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Name the pairs of the following angles formed by a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"/>
          <p:cNvGrpSpPr/>
          <p:nvPr/>
        </p:nvGrpSpPr>
        <p:grpSpPr>
          <a:xfrm>
            <a:off x="1649520" y="1606680"/>
            <a:ext cx="6003360" cy="3639600"/>
            <a:chOff x="1649520" y="1606680"/>
            <a:chExt cx="6003360" cy="3639600"/>
          </a:xfrm>
        </p:grpSpPr>
        <p:sp>
          <p:nvSpPr>
            <p:cNvPr id="466" name="Freeform 8"/>
            <p:cNvSpPr/>
            <p:nvPr/>
          </p:nvSpPr>
          <p:spPr>
            <a:xfrm>
              <a:off x="3823920" y="3641040"/>
              <a:ext cx="574560" cy="3762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76" h="176">
                  <a:moveTo>
                    <a:pt x="276" y="176"/>
                  </a:moveTo>
                  <a:lnTo>
                    <a:pt x="140" y="176"/>
                  </a:lnTo>
                  <a:lnTo>
                    <a:pt x="0" y="176"/>
                  </a:lnTo>
                  <a:lnTo>
                    <a:pt x="12" y="100"/>
                  </a:lnTo>
                  <a:lnTo>
                    <a:pt x="52" y="40"/>
                  </a:lnTo>
                  <a:lnTo>
                    <a:pt x="124" y="8"/>
                  </a:lnTo>
                  <a:lnTo>
                    <a:pt x="172" y="0"/>
                  </a:lnTo>
                  <a:lnTo>
                    <a:pt x="212" y="76"/>
                  </a:lnTo>
                  <a:lnTo>
                    <a:pt x="276" y="17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9"/>
            <p:cNvSpPr/>
            <p:nvPr/>
          </p:nvSpPr>
          <p:spPr>
            <a:xfrm>
              <a:off x="3022560" y="2388600"/>
              <a:ext cx="559800" cy="356760"/>
            </a:xfrm>
            <a:custGeom>
              <a:avLst/>
              <a:gdLst>
                <a:gd name="textAreaLeft" fmla="*/ 0 w 559800"/>
                <a:gd name="textAreaRight" fmla="*/ 560160 w 55980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76" h="176">
                  <a:moveTo>
                    <a:pt x="276" y="176"/>
                  </a:moveTo>
                  <a:lnTo>
                    <a:pt x="140" y="176"/>
                  </a:lnTo>
                  <a:lnTo>
                    <a:pt x="0" y="176"/>
                  </a:lnTo>
                  <a:lnTo>
                    <a:pt x="12" y="100"/>
                  </a:lnTo>
                  <a:lnTo>
                    <a:pt x="52" y="40"/>
                  </a:lnTo>
                  <a:lnTo>
                    <a:pt x="124" y="8"/>
                  </a:lnTo>
                  <a:lnTo>
                    <a:pt x="172" y="0"/>
                  </a:lnTo>
                  <a:lnTo>
                    <a:pt x="212" y="76"/>
                  </a:lnTo>
                  <a:lnTo>
                    <a:pt x="276" y="17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10"/>
            <p:cNvSpPr/>
            <p:nvPr/>
          </p:nvSpPr>
          <p:spPr>
            <a:xfrm flipH="1">
              <a:off x="3028680" y="2407680"/>
              <a:ext cx="378360" cy="349200"/>
            </a:xfrm>
            <a:custGeom>
              <a:avLst/>
              <a:gdLst>
                <a:gd name="textAreaLeft" fmla="*/ -360 w 378360"/>
                <a:gd name="textAreaRight" fmla="*/ 378360 w 3783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fill="none" w="21600" h="24212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2220"/>
                    <a:pt x="21530" y="23220"/>
                    <a:pt x="21391" y="24211"/>
                  </a:cubicBezTo>
                </a:path>
                <a:path stroke="0" w="21600" h="24212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2220"/>
                    <a:pt x="21530" y="23220"/>
                    <a:pt x="21391" y="24211"/>
                  </a:cubicBezTo>
                  <a:lnTo>
                    <a:pt x="0" y="21219"/>
                  </a:lnTo>
                  <a:lnTo>
                    <a:pt x="4037" y="-1"/>
                  </a:lnTo>
                  <a:close/>
                </a:path>
              </a:pathLst>
            </a:custGeom>
            <a:noFill/>
            <a:ln w="3816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rc 11"/>
            <p:cNvSpPr/>
            <p:nvPr/>
          </p:nvSpPr>
          <p:spPr>
            <a:xfrm flipH="1">
              <a:off x="3811320" y="3632040"/>
              <a:ext cx="378360" cy="394200"/>
            </a:xfrm>
            <a:custGeom>
              <a:avLst/>
              <a:gdLst>
                <a:gd name="textAreaLeft" fmla="*/ -360 w 378360"/>
                <a:gd name="textAreaRight" fmla="*/ 378360 w 37836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fill="none" w="21600" h="24212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2220"/>
                    <a:pt x="21530" y="23220"/>
                    <a:pt x="21391" y="24211"/>
                  </a:cubicBezTo>
                </a:path>
                <a:path stroke="0" w="21600" h="24212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2220"/>
                    <a:pt x="21530" y="23220"/>
                    <a:pt x="21391" y="24211"/>
                  </a:cubicBezTo>
                  <a:lnTo>
                    <a:pt x="0" y="21219"/>
                  </a:lnTo>
                  <a:lnTo>
                    <a:pt x="4037" y="-1"/>
                  </a:lnTo>
                  <a:close/>
                </a:path>
              </a:pathLst>
            </a:custGeom>
            <a:noFill/>
            <a:ln w="3816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2"/>
            <p:cNvSpPr/>
            <p:nvPr/>
          </p:nvSpPr>
          <p:spPr>
            <a:xfrm flipH="1" flipV="1">
              <a:off x="3244320" y="2773800"/>
              <a:ext cx="635400" cy="519840"/>
            </a:xfrm>
            <a:custGeom>
              <a:avLst/>
              <a:gdLst>
                <a:gd name="textAreaLeft" fmla="*/ 0 w 635400"/>
                <a:gd name="textAreaRight" fmla="*/ 635400 w 635400"/>
                <a:gd name="textAreaTop" fmla="*/ 360 h 519840"/>
                <a:gd name="textAreaBottom" fmla="*/ 520560 h 519840"/>
              </a:gdLst>
              <a:ahLst/>
              <a:rect l="textAreaLeft" t="textAreaTop" r="textAreaRight" b="textAreaBottom"/>
              <a:pathLst>
                <a:path fill="none" w="25216" h="21600">
                  <a:moveTo>
                    <a:pt x="-1" y="304"/>
                  </a:moveTo>
                  <a:cubicBezTo>
                    <a:pt x="1194" y="101"/>
                    <a:pt x="2404" y="-1"/>
                    <a:pt x="3616" y="0"/>
                  </a:cubicBezTo>
                  <a:cubicBezTo>
                    <a:pt x="15545" y="0"/>
                    <a:pt x="25216" y="9670"/>
                    <a:pt x="25216" y="21600"/>
                  </a:cubicBezTo>
                </a:path>
                <a:path stroke="0" w="25216" h="21600">
                  <a:moveTo>
                    <a:pt x="-1" y="304"/>
                  </a:moveTo>
                  <a:cubicBezTo>
                    <a:pt x="1194" y="101"/>
                    <a:pt x="2404" y="-1"/>
                    <a:pt x="3616" y="0"/>
                  </a:cubicBezTo>
                  <a:cubicBezTo>
                    <a:pt x="15545" y="0"/>
                    <a:pt x="25216" y="9670"/>
                    <a:pt x="25216" y="21600"/>
                  </a:cubicBezTo>
                  <a:lnTo>
                    <a:pt x="3616" y="21600"/>
                  </a:lnTo>
                  <a:lnTo>
                    <a:pt x="-1" y="304"/>
                  </a:ln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rc 13"/>
            <p:cNvSpPr/>
            <p:nvPr/>
          </p:nvSpPr>
          <p:spPr>
            <a:xfrm flipH="1" flipV="1">
              <a:off x="3996360" y="4014720"/>
              <a:ext cx="678240" cy="496080"/>
            </a:xfrm>
            <a:custGeom>
              <a:avLst/>
              <a:gdLst>
                <a:gd name="textAreaLeft" fmla="*/ 360 w 678240"/>
                <a:gd name="textAreaRight" fmla="*/ 678960 w 678240"/>
                <a:gd name="textAreaTop" fmla="*/ 360 h 496080"/>
                <a:gd name="textAreaBottom" fmla="*/ 496800 h 496080"/>
              </a:gdLst>
              <a:ahLst/>
              <a:rect l="textAreaLeft" t="textAreaTop" r="textAreaRight" b="textAreaBottom"/>
              <a:pathLst>
                <a:path fill="none" w="23681" h="21600">
                  <a:moveTo>
                    <a:pt x="0" y="100"/>
                  </a:moveTo>
                  <a:cubicBezTo>
                    <a:pt x="691" y="33"/>
                    <a:pt x="1386" y="-1"/>
                    <a:pt x="2081" y="0"/>
                  </a:cubicBezTo>
                  <a:cubicBezTo>
                    <a:pt x="14010" y="0"/>
                    <a:pt x="23681" y="9670"/>
                    <a:pt x="23681" y="21600"/>
                  </a:cubicBezTo>
                </a:path>
                <a:path stroke="0" w="23681" h="21600">
                  <a:moveTo>
                    <a:pt x="0" y="100"/>
                  </a:moveTo>
                  <a:cubicBezTo>
                    <a:pt x="691" y="33"/>
                    <a:pt x="1386" y="-1"/>
                    <a:pt x="2081" y="0"/>
                  </a:cubicBezTo>
                  <a:cubicBezTo>
                    <a:pt x="14010" y="0"/>
                    <a:pt x="23681" y="9670"/>
                    <a:pt x="23681" y="21600"/>
                  </a:cubicBezTo>
                  <a:lnTo>
                    <a:pt x="2081" y="21600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rc 14"/>
            <p:cNvSpPr/>
            <p:nvPr/>
          </p:nvSpPr>
          <p:spPr>
            <a:xfrm flipV="1">
              <a:off x="4568400" y="4024440"/>
              <a:ext cx="84960" cy="293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360 h 293040"/>
                <a:gd name="textAreaBottom" fmla="*/ 293760 h 29304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0" y="0"/>
                  </a:moveTo>
                  <a:cubicBezTo>
                    <a:pt x="0" y="0"/>
                    <a:pt x="0" y="-1"/>
                    <a:pt x="1" y="0"/>
                  </a:cubicBezTo>
                  <a:cubicBezTo>
                    <a:pt x="11930" y="0"/>
                    <a:pt x="21601" y="9670"/>
                    <a:pt x="21601" y="21600"/>
                  </a:cubicBezTo>
                </a:path>
                <a:path stroke="0" w="21601" h="21600">
                  <a:moveTo>
                    <a:pt x="0" y="0"/>
                  </a:moveTo>
                  <a:cubicBezTo>
                    <a:pt x="0" y="0"/>
                    <a:pt x="0" y="-1"/>
                    <a:pt x="1" y="0"/>
                  </a:cubicBezTo>
                  <a:cubicBezTo>
                    <a:pt x="11930" y="0"/>
                    <a:pt x="21601" y="9670"/>
                    <a:pt x="21601" y="21600"/>
                  </a:cubicBezTo>
                  <a:lnTo>
                    <a:pt x="1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rc 15"/>
            <p:cNvSpPr/>
            <p:nvPr/>
          </p:nvSpPr>
          <p:spPr>
            <a:xfrm flipV="1">
              <a:off x="3750480" y="2779920"/>
              <a:ext cx="116280" cy="2408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-360 h 240840"/>
                <a:gd name="textAreaBottom" fmla="*/ 240840 h 240840"/>
              </a:gdLst>
              <a:ahLst/>
              <a:rect l="textAreaLeft" t="textAreaTop" r="textAreaRight" b="textAreaBottom"/>
              <a:pathLst>
                <a:path fill="none" w="21600" h="21192">
                  <a:moveTo>
                    <a:pt x="4176" y="-1"/>
                  </a:moveTo>
                  <a:cubicBezTo>
                    <a:pt x="14300" y="1994"/>
                    <a:pt x="21600" y="10872"/>
                    <a:pt x="21600" y="21192"/>
                  </a:cubicBezTo>
                </a:path>
                <a:path stroke="0" w="21600" h="21192">
                  <a:moveTo>
                    <a:pt x="4176" y="-1"/>
                  </a:moveTo>
                  <a:cubicBezTo>
                    <a:pt x="14300" y="1994"/>
                    <a:pt x="21600" y="10872"/>
                    <a:pt x="21600" y="21192"/>
                  </a:cubicBezTo>
                  <a:lnTo>
                    <a:pt x="0" y="21192"/>
                  </a:lnTo>
                  <a:lnTo>
                    <a:pt x="4176" y="-1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rc 16"/>
            <p:cNvSpPr/>
            <p:nvPr/>
          </p:nvSpPr>
          <p:spPr>
            <a:xfrm>
              <a:off x="3412800" y="2480760"/>
              <a:ext cx="349920" cy="28116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fill="none" w="21600" h="2459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01"/>
                    <a:pt x="21530" y="23601"/>
                    <a:pt x="21391" y="24592"/>
                  </a:cubicBezTo>
                </a:path>
                <a:path stroke="0" w="21600" h="2459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01"/>
                    <a:pt x="21530" y="23601"/>
                    <a:pt x="21391" y="245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rc 17"/>
            <p:cNvSpPr/>
            <p:nvPr/>
          </p:nvSpPr>
          <p:spPr>
            <a:xfrm>
              <a:off x="4221000" y="3759480"/>
              <a:ext cx="363600" cy="28116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fill="none" w="22438" h="24593">
                  <a:moveTo>
                    <a:pt x="0" y="16"/>
                  </a:moveTo>
                  <a:cubicBezTo>
                    <a:pt x="279" y="5"/>
                    <a:pt x="558" y="-1"/>
                    <a:pt x="838" y="0"/>
                  </a:cubicBezTo>
                  <a:cubicBezTo>
                    <a:pt x="12767" y="0"/>
                    <a:pt x="22438" y="9670"/>
                    <a:pt x="22438" y="21600"/>
                  </a:cubicBezTo>
                  <a:cubicBezTo>
                    <a:pt x="22438" y="22601"/>
                    <a:pt x="22368" y="23601"/>
                    <a:pt x="22229" y="24592"/>
                  </a:cubicBezTo>
                </a:path>
                <a:path stroke="0" w="22438" h="24593">
                  <a:moveTo>
                    <a:pt x="0" y="16"/>
                  </a:moveTo>
                  <a:cubicBezTo>
                    <a:pt x="279" y="5"/>
                    <a:pt x="558" y="-1"/>
                    <a:pt x="838" y="0"/>
                  </a:cubicBezTo>
                  <a:cubicBezTo>
                    <a:pt x="12767" y="0"/>
                    <a:pt x="22438" y="9670"/>
                    <a:pt x="22438" y="21600"/>
                  </a:cubicBezTo>
                  <a:cubicBezTo>
                    <a:pt x="22438" y="22601"/>
                    <a:pt x="22368" y="23601"/>
                    <a:pt x="22229" y="24592"/>
                  </a:cubicBezTo>
                  <a:lnTo>
                    <a:pt x="838" y="2160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381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8"/>
            <p:cNvSpPr/>
            <p:nvPr/>
          </p:nvSpPr>
          <p:spPr>
            <a:xfrm>
              <a:off x="1817280" y="4024440"/>
              <a:ext cx="437508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9"/>
            <p:cNvSpPr/>
            <p:nvPr/>
          </p:nvSpPr>
          <p:spPr>
            <a:xfrm>
              <a:off x="1649520" y="2771640"/>
              <a:ext cx="43722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0"/>
            <p:cNvSpPr/>
            <p:nvPr/>
          </p:nvSpPr>
          <p:spPr>
            <a:xfrm>
              <a:off x="5904000" y="2520720"/>
              <a:ext cx="16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21"/>
            <p:cNvSpPr/>
            <p:nvPr/>
          </p:nvSpPr>
          <p:spPr>
            <a:xfrm>
              <a:off x="5369760" y="2721960"/>
              <a:ext cx="9684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2"/>
            <p:cNvSpPr/>
            <p:nvPr/>
          </p:nvSpPr>
          <p:spPr>
            <a:xfrm flipH="1" flipV="1" rot="10800000">
              <a:off x="5153760" y="27871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3"/>
            <p:cNvSpPr/>
            <p:nvPr/>
          </p:nvSpPr>
          <p:spPr>
            <a:xfrm flipH="1" flipV="1" rot="10800000">
              <a:off x="2014920" y="2725920"/>
              <a:ext cx="58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24"/>
            <p:cNvSpPr/>
            <p:nvPr/>
          </p:nvSpPr>
          <p:spPr>
            <a:xfrm>
              <a:off x="2275920" y="2716920"/>
              <a:ext cx="99000" cy="103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5"/>
            <p:cNvSpPr/>
            <p:nvPr/>
          </p:nvSpPr>
          <p:spPr>
            <a:xfrm>
              <a:off x="6036480" y="3749760"/>
              <a:ext cx="161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26"/>
            <p:cNvSpPr/>
            <p:nvPr/>
          </p:nvSpPr>
          <p:spPr>
            <a:xfrm>
              <a:off x="2259360" y="3974400"/>
              <a:ext cx="9900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7"/>
            <p:cNvSpPr/>
            <p:nvPr/>
          </p:nvSpPr>
          <p:spPr>
            <a:xfrm>
              <a:off x="5355720" y="3967560"/>
              <a:ext cx="96120" cy="103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8"/>
            <p:cNvSpPr/>
            <p:nvPr/>
          </p:nvSpPr>
          <p:spPr>
            <a:xfrm flipH="1" flipV="1" rot="10800000">
              <a:off x="2033640" y="403056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9"/>
            <p:cNvSpPr/>
            <p:nvPr/>
          </p:nvSpPr>
          <p:spPr>
            <a:xfrm flipH="1" flipV="1" rot="10800000">
              <a:off x="5113440" y="4030560"/>
              <a:ext cx="58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0"/>
            <p:cNvSpPr/>
            <p:nvPr/>
          </p:nvSpPr>
          <p:spPr>
            <a:xfrm flipH="1" flipV="1">
              <a:off x="2847960" y="1606680"/>
              <a:ext cx="2304000" cy="3639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3542400" y="2726640"/>
              <a:ext cx="99360" cy="1036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32"/>
            <p:cNvSpPr/>
            <p:nvPr/>
          </p:nvSpPr>
          <p:spPr>
            <a:xfrm>
              <a:off x="4334760" y="3974400"/>
              <a:ext cx="99000" cy="1036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33"/>
            <p:cNvSpPr/>
            <p:nvPr/>
          </p:nvSpPr>
          <p:spPr>
            <a:xfrm>
              <a:off x="3051000" y="1949040"/>
              <a:ext cx="9900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4"/>
            <p:cNvSpPr/>
            <p:nvPr/>
          </p:nvSpPr>
          <p:spPr>
            <a:xfrm flipH="1" flipV="1" rot="10800000">
              <a:off x="3334320" y="275940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5"/>
            <p:cNvSpPr/>
            <p:nvPr/>
          </p:nvSpPr>
          <p:spPr>
            <a:xfrm flipH="1" flipV="1" rot="10800000">
              <a:off x="4010760" y="401220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6"/>
            <p:cNvSpPr/>
            <p:nvPr/>
          </p:nvSpPr>
          <p:spPr>
            <a:xfrm>
              <a:off x="4785840" y="4688280"/>
              <a:ext cx="99000" cy="103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7"/>
            <p:cNvSpPr/>
            <p:nvPr/>
          </p:nvSpPr>
          <p:spPr>
            <a:xfrm flipH="1" flipV="1" rot="10800000">
              <a:off x="2610360" y="1851120"/>
              <a:ext cx="58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38"/>
            <p:cNvSpPr/>
            <p:nvPr/>
          </p:nvSpPr>
          <p:spPr>
            <a:xfrm flipH="1" flipV="1" rot="10800000">
              <a:off x="4321800" y="461916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39"/>
            <p:cNvSpPr/>
            <p:nvPr/>
          </p:nvSpPr>
          <p:spPr>
            <a:xfrm>
              <a:off x="2946960" y="162036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WordArt 40"/>
          <p:cNvSpPr txBox="1"/>
          <p:nvPr/>
        </p:nvSpPr>
        <p:spPr>
          <a:xfrm>
            <a:off x="2614680" y="5526000"/>
            <a:ext cx="3257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33ff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Corresponding ang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50000">
                    <a:srgbClr val="9933ff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499" name="Group 41"/>
          <p:cNvGrpSpPr/>
          <p:nvPr/>
        </p:nvGrpSpPr>
        <p:grpSpPr>
          <a:xfrm>
            <a:off x="1887480" y="1708200"/>
            <a:ext cx="5322600" cy="3431520"/>
            <a:chOff x="1887480" y="1708200"/>
            <a:chExt cx="5322600" cy="3431520"/>
          </a:xfrm>
        </p:grpSpPr>
        <p:sp>
          <p:nvSpPr>
            <p:cNvPr id="500" name="Freeform 42"/>
            <p:cNvSpPr/>
            <p:nvPr/>
          </p:nvSpPr>
          <p:spPr>
            <a:xfrm flipH="1" rot="3500400">
              <a:off x="3758400" y="3721320"/>
              <a:ext cx="519120" cy="385560"/>
            </a:xfrm>
            <a:custGeom>
              <a:avLst/>
              <a:gdLst>
                <a:gd name="textAreaLeft" fmla="*/ 360 w 519120"/>
                <a:gd name="textAreaRight" fmla="*/ 519840 w 5191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28" h="210">
                  <a:moveTo>
                    <a:pt x="222" y="0"/>
                  </a:moveTo>
                  <a:cubicBezTo>
                    <a:pt x="148" y="0"/>
                    <a:pt x="74" y="0"/>
                    <a:pt x="0" y="0"/>
                  </a:cubicBezTo>
                  <a:lnTo>
                    <a:pt x="138" y="210"/>
                  </a:lnTo>
                  <a:lnTo>
                    <a:pt x="210" y="132"/>
                  </a:lnTo>
                  <a:lnTo>
                    <a:pt x="228" y="7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3"/>
            <p:cNvSpPr/>
            <p:nvPr/>
          </p:nvSpPr>
          <p:spPr>
            <a:xfrm>
              <a:off x="3636720" y="2854800"/>
              <a:ext cx="439920" cy="43452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28" h="210">
                  <a:moveTo>
                    <a:pt x="222" y="0"/>
                  </a:moveTo>
                  <a:cubicBezTo>
                    <a:pt x="148" y="0"/>
                    <a:pt x="74" y="0"/>
                    <a:pt x="0" y="0"/>
                  </a:cubicBezTo>
                  <a:lnTo>
                    <a:pt x="138" y="210"/>
                  </a:lnTo>
                  <a:lnTo>
                    <a:pt x="210" y="132"/>
                  </a:lnTo>
                  <a:lnTo>
                    <a:pt x="228" y="7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rc 44"/>
            <p:cNvSpPr/>
            <p:nvPr/>
          </p:nvSpPr>
          <p:spPr>
            <a:xfrm rot="13840800">
              <a:off x="3829320" y="3590280"/>
              <a:ext cx="297720" cy="397440"/>
            </a:xfrm>
            <a:custGeom>
              <a:avLst/>
              <a:gdLst>
                <a:gd name="textAreaLeft" fmla="*/ 0 w 297720"/>
                <a:gd name="textAreaRight" fmla="*/ 297720 w 29772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fill="none" w="21600" h="28465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3688"/>
                    <a:pt x="21176" y="26139"/>
                    <a:pt x="20348" y="28465"/>
                  </a:cubicBezTo>
                </a:path>
                <a:path stroke="0" w="21600" h="28465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3688"/>
                    <a:pt x="21176" y="26139"/>
                    <a:pt x="20348" y="28465"/>
                  </a:cubicBezTo>
                  <a:lnTo>
                    <a:pt x="0" y="21219"/>
                  </a:lnTo>
                  <a:lnTo>
                    <a:pt x="4037" y="-1"/>
                  </a:lnTo>
                  <a:close/>
                </a:path>
              </a:pathLst>
            </a:custGeom>
            <a:noFill/>
            <a:ln w="572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rc 45"/>
            <p:cNvSpPr/>
            <p:nvPr/>
          </p:nvSpPr>
          <p:spPr>
            <a:xfrm rot="3040800">
              <a:off x="3810600" y="2839320"/>
              <a:ext cx="295560" cy="4323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fill="none" w="21600" h="31094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4653"/>
                    <a:pt x="20780" y="28038"/>
                    <a:pt x="19210" y="31093"/>
                  </a:cubicBezTo>
                </a:path>
                <a:path stroke="0" w="21600" h="31094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4653"/>
                    <a:pt x="20780" y="28038"/>
                    <a:pt x="19210" y="31093"/>
                  </a:cubicBezTo>
                  <a:lnTo>
                    <a:pt x="0" y="21219"/>
                  </a:lnTo>
                  <a:lnTo>
                    <a:pt x="4037" y="-1"/>
                  </a:lnTo>
                  <a:close/>
                </a:path>
              </a:pathLst>
            </a:custGeom>
            <a:noFill/>
            <a:ln w="572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46"/>
            <p:cNvSpPr/>
            <p:nvPr/>
          </p:nvSpPr>
          <p:spPr>
            <a:xfrm>
              <a:off x="2037960" y="4007160"/>
              <a:ext cx="38919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7"/>
            <p:cNvSpPr/>
            <p:nvPr/>
          </p:nvSpPr>
          <p:spPr>
            <a:xfrm>
              <a:off x="1887480" y="2842920"/>
              <a:ext cx="389412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48"/>
            <p:cNvSpPr/>
            <p:nvPr/>
          </p:nvSpPr>
          <p:spPr>
            <a:xfrm>
              <a:off x="5599800" y="2609640"/>
              <a:ext cx="15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49"/>
            <p:cNvSpPr/>
            <p:nvPr/>
          </p:nvSpPr>
          <p:spPr>
            <a:xfrm>
              <a:off x="5198400" y="2795760"/>
              <a:ext cx="8856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50"/>
            <p:cNvSpPr/>
            <p:nvPr/>
          </p:nvSpPr>
          <p:spPr>
            <a:xfrm flipH="1" flipV="1" rot="10800000">
              <a:off x="5007240" y="2857680"/>
              <a:ext cx="5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51"/>
            <p:cNvSpPr/>
            <p:nvPr/>
          </p:nvSpPr>
          <p:spPr>
            <a:xfrm flipH="1" flipV="1" rot="10800000">
              <a:off x="2217240" y="2840400"/>
              <a:ext cx="5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2"/>
            <p:cNvSpPr/>
            <p:nvPr/>
          </p:nvSpPr>
          <p:spPr>
            <a:xfrm>
              <a:off x="2445480" y="2791800"/>
              <a:ext cx="8640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53"/>
            <p:cNvSpPr/>
            <p:nvPr/>
          </p:nvSpPr>
          <p:spPr>
            <a:xfrm>
              <a:off x="5769720" y="3780000"/>
              <a:ext cx="14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54"/>
            <p:cNvSpPr/>
            <p:nvPr/>
          </p:nvSpPr>
          <p:spPr>
            <a:xfrm>
              <a:off x="2429640" y="3958200"/>
              <a:ext cx="8712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55"/>
            <p:cNvSpPr/>
            <p:nvPr/>
          </p:nvSpPr>
          <p:spPr>
            <a:xfrm>
              <a:off x="5187240" y="3954240"/>
              <a:ext cx="86400" cy="9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6"/>
            <p:cNvSpPr/>
            <p:nvPr/>
          </p:nvSpPr>
          <p:spPr>
            <a:xfrm flipH="1" flipV="1" rot="10800000">
              <a:off x="2229840" y="400536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57"/>
            <p:cNvSpPr/>
            <p:nvPr/>
          </p:nvSpPr>
          <p:spPr>
            <a:xfrm flipH="1" flipV="1" rot="10800000">
              <a:off x="4974120" y="4000680"/>
              <a:ext cx="5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58"/>
            <p:cNvSpPr/>
            <p:nvPr/>
          </p:nvSpPr>
          <p:spPr>
            <a:xfrm flipH="1" flipV="1">
              <a:off x="2954880" y="1760760"/>
              <a:ext cx="2050200" cy="33789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59"/>
            <p:cNvSpPr/>
            <p:nvPr/>
          </p:nvSpPr>
          <p:spPr>
            <a:xfrm>
              <a:off x="3573000" y="2801520"/>
              <a:ext cx="88560" cy="961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60"/>
            <p:cNvSpPr/>
            <p:nvPr/>
          </p:nvSpPr>
          <p:spPr>
            <a:xfrm>
              <a:off x="4279320" y="3960360"/>
              <a:ext cx="86400" cy="957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1"/>
            <p:cNvSpPr/>
            <p:nvPr/>
          </p:nvSpPr>
          <p:spPr>
            <a:xfrm>
              <a:off x="3134520" y="2078280"/>
              <a:ext cx="8856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62"/>
            <p:cNvSpPr/>
            <p:nvPr/>
          </p:nvSpPr>
          <p:spPr>
            <a:xfrm flipH="1" flipV="1" rot="10800000">
              <a:off x="3371760" y="27817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63"/>
            <p:cNvSpPr/>
            <p:nvPr/>
          </p:nvSpPr>
          <p:spPr>
            <a:xfrm flipH="1" flipV="1" rot="10800000">
              <a:off x="4026600" y="39592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4"/>
            <p:cNvSpPr/>
            <p:nvPr/>
          </p:nvSpPr>
          <p:spPr>
            <a:xfrm>
              <a:off x="4679280" y="4622760"/>
              <a:ext cx="8640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65"/>
            <p:cNvSpPr/>
            <p:nvPr/>
          </p:nvSpPr>
          <p:spPr>
            <a:xfrm flipH="1" flipV="1" rot="10800000">
              <a:off x="2755440" y="1987920"/>
              <a:ext cx="52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66"/>
            <p:cNvSpPr/>
            <p:nvPr/>
          </p:nvSpPr>
          <p:spPr>
            <a:xfrm flipH="1" flipV="1" rot="10800000">
              <a:off x="4274640" y="455220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67"/>
            <p:cNvSpPr/>
            <p:nvPr/>
          </p:nvSpPr>
          <p:spPr>
            <a:xfrm>
              <a:off x="3040200" y="1708200"/>
              <a:ext cx="15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WordArt 68"/>
          <p:cNvSpPr txBox="1"/>
          <p:nvPr/>
        </p:nvSpPr>
        <p:spPr>
          <a:xfrm>
            <a:off x="2752560" y="5541840"/>
            <a:ext cx="3257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33ff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Alternate ang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50000">
                    <a:srgbClr val="9933ff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527" name="Group 69"/>
          <p:cNvGrpSpPr/>
          <p:nvPr/>
        </p:nvGrpSpPr>
        <p:grpSpPr>
          <a:xfrm>
            <a:off x="1865160" y="1646280"/>
            <a:ext cx="5433480" cy="3625200"/>
            <a:chOff x="1865160" y="1646280"/>
            <a:chExt cx="5433480" cy="3625200"/>
          </a:xfrm>
        </p:grpSpPr>
        <p:sp>
          <p:nvSpPr>
            <p:cNvPr id="528" name="Freeform 70"/>
            <p:cNvSpPr/>
            <p:nvPr/>
          </p:nvSpPr>
          <p:spPr>
            <a:xfrm>
              <a:off x="3296880" y="2805840"/>
              <a:ext cx="568800" cy="35748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329" h="185">
                  <a:moveTo>
                    <a:pt x="204" y="14"/>
                  </a:moveTo>
                  <a:cubicBezTo>
                    <a:pt x="165" y="0"/>
                    <a:pt x="191" y="1"/>
                    <a:pt x="137" y="1"/>
                  </a:cubicBezTo>
                  <a:cubicBezTo>
                    <a:pt x="111" y="0"/>
                    <a:pt x="38" y="3"/>
                    <a:pt x="17" y="5"/>
                  </a:cubicBezTo>
                  <a:cubicBezTo>
                    <a:pt x="3" y="21"/>
                    <a:pt x="50" y="89"/>
                    <a:pt x="53" y="97"/>
                  </a:cubicBezTo>
                  <a:cubicBezTo>
                    <a:pt x="55" y="109"/>
                    <a:pt x="45" y="64"/>
                    <a:pt x="37" y="53"/>
                  </a:cubicBezTo>
                  <a:cubicBezTo>
                    <a:pt x="29" y="42"/>
                    <a:pt x="10" y="34"/>
                    <a:pt x="5" y="29"/>
                  </a:cubicBezTo>
                  <a:cubicBezTo>
                    <a:pt x="9" y="32"/>
                    <a:pt x="0" y="13"/>
                    <a:pt x="9" y="25"/>
                  </a:cubicBezTo>
                  <a:lnTo>
                    <a:pt x="81" y="125"/>
                  </a:lnTo>
                  <a:cubicBezTo>
                    <a:pt x="103" y="146"/>
                    <a:pt x="113" y="152"/>
                    <a:pt x="133" y="161"/>
                  </a:cubicBezTo>
                  <a:cubicBezTo>
                    <a:pt x="153" y="170"/>
                    <a:pt x="172" y="177"/>
                    <a:pt x="200" y="181"/>
                  </a:cubicBezTo>
                  <a:lnTo>
                    <a:pt x="300" y="185"/>
                  </a:lnTo>
                  <a:lnTo>
                    <a:pt x="329" y="185"/>
                  </a:lnTo>
                  <a:cubicBezTo>
                    <a:pt x="287" y="128"/>
                    <a:pt x="204" y="14"/>
                    <a:pt x="204" y="14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1"/>
            <p:cNvSpPr/>
            <p:nvPr/>
          </p:nvSpPr>
          <p:spPr>
            <a:xfrm>
              <a:off x="3933000" y="3583800"/>
              <a:ext cx="418680" cy="503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44" h="258">
                  <a:moveTo>
                    <a:pt x="244" y="236"/>
                  </a:moveTo>
                  <a:lnTo>
                    <a:pt x="176" y="132"/>
                  </a:lnTo>
                  <a:lnTo>
                    <a:pt x="80" y="0"/>
                  </a:lnTo>
                  <a:lnTo>
                    <a:pt x="20" y="80"/>
                  </a:lnTo>
                  <a:lnTo>
                    <a:pt x="0" y="164"/>
                  </a:lnTo>
                  <a:lnTo>
                    <a:pt x="16" y="258"/>
                  </a:lnTo>
                  <a:lnTo>
                    <a:pt x="20" y="236"/>
                  </a:lnTo>
                  <a:lnTo>
                    <a:pt x="144" y="236"/>
                  </a:lnTo>
                  <a:lnTo>
                    <a:pt x="244" y="236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72"/>
            <p:cNvGrpSpPr/>
            <p:nvPr/>
          </p:nvGrpSpPr>
          <p:grpSpPr>
            <a:xfrm>
              <a:off x="3298320" y="2790000"/>
              <a:ext cx="986400" cy="1309680"/>
              <a:chOff x="3298320" y="2790000"/>
              <a:chExt cx="986400" cy="1309680"/>
            </a:xfrm>
          </p:grpSpPr>
          <p:sp>
            <p:nvSpPr>
              <p:cNvPr id="531" name="Arc 73"/>
              <p:cNvSpPr/>
              <p:nvPr/>
            </p:nvSpPr>
            <p:spPr>
              <a:xfrm rot="13840800">
                <a:off x="3873600" y="3675600"/>
                <a:ext cx="331560" cy="36216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fill="none" w="21600" h="24212">
                    <a:moveTo>
                      <a:pt x="4037" y="-1"/>
                    </a:moveTo>
                    <a:cubicBezTo>
                      <a:pt x="14226" y="1938"/>
                      <a:pt x="21600" y="10846"/>
                      <a:pt x="21600" y="21219"/>
                    </a:cubicBezTo>
                    <a:cubicBezTo>
                      <a:pt x="21600" y="22220"/>
                      <a:pt x="21530" y="23220"/>
                      <a:pt x="21391" y="24211"/>
                    </a:cubicBezTo>
                  </a:path>
                  <a:path stroke="0" w="21600" h="24212">
                    <a:moveTo>
                      <a:pt x="4037" y="-1"/>
                    </a:moveTo>
                    <a:cubicBezTo>
                      <a:pt x="14226" y="1938"/>
                      <a:pt x="21600" y="10846"/>
                      <a:pt x="21600" y="21219"/>
                    </a:cubicBezTo>
                    <a:cubicBezTo>
                      <a:pt x="21600" y="22220"/>
                      <a:pt x="21530" y="23220"/>
                      <a:pt x="21391" y="24211"/>
                    </a:cubicBezTo>
                    <a:lnTo>
                      <a:pt x="0" y="21219"/>
                    </a:lnTo>
                    <a:lnTo>
                      <a:pt x="4037" y="-1"/>
                    </a:lnTo>
                    <a:close/>
                  </a:path>
                </a:pathLst>
              </a:custGeom>
              <a:noFill/>
              <a:ln w="57240">
                <a:solidFill>
                  <a:srgbClr val="99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rc 74"/>
              <p:cNvSpPr/>
              <p:nvPr/>
            </p:nvSpPr>
            <p:spPr>
              <a:xfrm flipH="1" flipV="1">
                <a:off x="3298320" y="2790000"/>
                <a:ext cx="538560" cy="352800"/>
              </a:xfrm>
              <a:custGeom>
                <a:avLst/>
                <a:gdLst>
                  <a:gd name="textAreaLeft" fmla="*/ 360 w 538560"/>
                  <a:gd name="textAreaRight" fmla="*/ 539280 w 538560"/>
                  <a:gd name="textAreaTop" fmla="*/ 360 h 352800"/>
                  <a:gd name="textAreaBottom" fmla="*/ 353520 h 352800"/>
                </a:gdLst>
                <a:ahLst/>
                <a:rect l="textAreaLeft" t="textAreaTop" r="textAreaRight" b="textAreaBottom"/>
                <a:pathLst>
                  <a:path fill="none" w="25216" h="21600">
                    <a:moveTo>
                      <a:pt x="-1" y="304"/>
                    </a:moveTo>
                    <a:cubicBezTo>
                      <a:pt x="1194" y="101"/>
                      <a:pt x="2404" y="-1"/>
                      <a:pt x="3616" y="0"/>
                    </a:cubicBezTo>
                    <a:cubicBezTo>
                      <a:pt x="15545" y="0"/>
                      <a:pt x="25216" y="9670"/>
                      <a:pt x="25216" y="21600"/>
                    </a:cubicBezTo>
                  </a:path>
                  <a:path stroke="0" w="25216" h="21600">
                    <a:moveTo>
                      <a:pt x="-1" y="304"/>
                    </a:moveTo>
                    <a:cubicBezTo>
                      <a:pt x="1194" y="101"/>
                      <a:pt x="2404" y="-1"/>
                      <a:pt x="3616" y="0"/>
                    </a:cubicBezTo>
                    <a:cubicBezTo>
                      <a:pt x="15545" y="0"/>
                      <a:pt x="25216" y="9670"/>
                      <a:pt x="25216" y="21600"/>
                    </a:cubicBezTo>
                    <a:lnTo>
                      <a:pt x="3616" y="21600"/>
                    </a:lnTo>
                    <a:lnTo>
                      <a:pt x="-1" y="304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Line 75"/>
            <p:cNvSpPr/>
            <p:nvPr/>
          </p:nvSpPr>
          <p:spPr>
            <a:xfrm>
              <a:off x="2020320" y="4058280"/>
              <a:ext cx="40161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6"/>
            <p:cNvSpPr/>
            <p:nvPr/>
          </p:nvSpPr>
          <p:spPr>
            <a:xfrm>
              <a:off x="1865160" y="2813400"/>
              <a:ext cx="40161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77"/>
            <p:cNvSpPr/>
            <p:nvPr/>
          </p:nvSpPr>
          <p:spPr>
            <a:xfrm>
              <a:off x="5677200" y="2586960"/>
              <a:ext cx="15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78"/>
            <p:cNvSpPr/>
            <p:nvPr/>
          </p:nvSpPr>
          <p:spPr>
            <a:xfrm>
              <a:off x="5280120" y="2763360"/>
              <a:ext cx="91080" cy="10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79"/>
            <p:cNvSpPr/>
            <p:nvPr/>
          </p:nvSpPr>
          <p:spPr>
            <a:xfrm flipH="1" flipV="1" rot="10800000">
              <a:off x="5081040" y="2827080"/>
              <a:ext cx="5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80"/>
            <p:cNvSpPr/>
            <p:nvPr/>
          </p:nvSpPr>
          <p:spPr>
            <a:xfrm flipH="1" flipV="1" rot="10800000">
              <a:off x="2194200" y="2818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81"/>
            <p:cNvSpPr/>
            <p:nvPr/>
          </p:nvSpPr>
          <p:spPr>
            <a:xfrm>
              <a:off x="2440800" y="2759400"/>
              <a:ext cx="910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82"/>
            <p:cNvSpPr/>
            <p:nvPr/>
          </p:nvSpPr>
          <p:spPr>
            <a:xfrm>
              <a:off x="5813640" y="3808440"/>
              <a:ext cx="148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83"/>
            <p:cNvSpPr/>
            <p:nvPr/>
          </p:nvSpPr>
          <p:spPr>
            <a:xfrm>
              <a:off x="2425320" y="4007880"/>
              <a:ext cx="892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84"/>
            <p:cNvSpPr/>
            <p:nvPr/>
          </p:nvSpPr>
          <p:spPr>
            <a:xfrm>
              <a:off x="5268240" y="4002120"/>
              <a:ext cx="892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85"/>
            <p:cNvSpPr/>
            <p:nvPr/>
          </p:nvSpPr>
          <p:spPr>
            <a:xfrm flipH="1" flipV="1" rot="10800000">
              <a:off x="2219400" y="40640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86"/>
            <p:cNvSpPr/>
            <p:nvPr/>
          </p:nvSpPr>
          <p:spPr>
            <a:xfrm flipH="1" flipV="1" rot="10800000">
              <a:off x="5047560" y="4054320"/>
              <a:ext cx="5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87"/>
            <p:cNvSpPr/>
            <p:nvPr/>
          </p:nvSpPr>
          <p:spPr>
            <a:xfrm flipH="1" flipV="1">
              <a:off x="2965680" y="1655640"/>
              <a:ext cx="2115000" cy="3615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88"/>
            <p:cNvSpPr/>
            <p:nvPr/>
          </p:nvSpPr>
          <p:spPr>
            <a:xfrm>
              <a:off x="3603600" y="2769120"/>
              <a:ext cx="91440" cy="102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89"/>
            <p:cNvSpPr/>
            <p:nvPr/>
          </p:nvSpPr>
          <p:spPr>
            <a:xfrm>
              <a:off x="4331520" y="4009320"/>
              <a:ext cx="91080" cy="102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90"/>
            <p:cNvSpPr/>
            <p:nvPr/>
          </p:nvSpPr>
          <p:spPr>
            <a:xfrm>
              <a:off x="3153240" y="1996560"/>
              <a:ext cx="892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91"/>
            <p:cNvSpPr/>
            <p:nvPr/>
          </p:nvSpPr>
          <p:spPr>
            <a:xfrm flipH="1" flipV="1" rot="10800000">
              <a:off x="3713760" y="2744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92"/>
            <p:cNvSpPr/>
            <p:nvPr/>
          </p:nvSpPr>
          <p:spPr>
            <a:xfrm flipH="1" flipV="1" rot="10800000">
              <a:off x="4052880" y="4041360"/>
              <a:ext cx="3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93"/>
            <p:cNvSpPr/>
            <p:nvPr/>
          </p:nvSpPr>
          <p:spPr>
            <a:xfrm>
              <a:off x="4744800" y="4717800"/>
              <a:ext cx="892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94"/>
            <p:cNvSpPr/>
            <p:nvPr/>
          </p:nvSpPr>
          <p:spPr>
            <a:xfrm flipH="1" flipV="1" rot="10800000">
              <a:off x="2761920" y="1897560"/>
              <a:ext cx="53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95"/>
            <p:cNvSpPr/>
            <p:nvPr/>
          </p:nvSpPr>
          <p:spPr>
            <a:xfrm flipH="1" flipV="1" rot="10800000">
              <a:off x="4386240" y="4650480"/>
              <a:ext cx="52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96"/>
            <p:cNvSpPr/>
            <p:nvPr/>
          </p:nvSpPr>
          <p:spPr>
            <a:xfrm>
              <a:off x="2960640" y="1646280"/>
              <a:ext cx="155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97"/>
            <p:cNvSpPr/>
            <p:nvPr/>
          </p:nvSpPr>
          <p:spPr>
            <a:xfrm>
              <a:off x="2922120" y="2914200"/>
              <a:ext cx="5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0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8"/>
            <p:cNvSpPr/>
            <p:nvPr/>
          </p:nvSpPr>
          <p:spPr>
            <a:xfrm>
              <a:off x="3291840" y="347544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30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WordArt 99"/>
          <p:cNvSpPr txBox="1"/>
          <p:nvPr/>
        </p:nvSpPr>
        <p:spPr>
          <a:xfrm>
            <a:off x="2685960" y="5581800"/>
            <a:ext cx="32576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33ff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Interior ang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50000">
                    <a:srgbClr val="9933ff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58" name="WordArt 100"/>
          <p:cNvSpPr txBox="1"/>
          <p:nvPr/>
        </p:nvSpPr>
        <p:spPr>
          <a:xfrm rot="19653600">
            <a:off x="1080720" y="2769840"/>
            <a:ext cx="66387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92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st Yourself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92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ges 174 13-44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66680" y="1523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slash through the parallel symbol  ||  indicates the lines ar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6035400" y="1628640"/>
            <a:ext cx="228600" cy="3049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 flipH="1">
            <a:off x="6765480" y="4070520"/>
            <a:ext cx="228600" cy="3045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6111720" y="3959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B  || 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>
            <a:off x="6188040" y="3959280"/>
            <a:ext cx="43992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7102440" y="3959280"/>
            <a:ext cx="43992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6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4191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kew Lin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75248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wo lines are skew if they are not in the same plan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do not inter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5562720" y="3505320"/>
            <a:ext cx="32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does not intersect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ince the lines are not in the same plane, they ar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kew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5638680" y="3917880"/>
            <a:ext cx="439920" cy="180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5638680" y="3521160"/>
            <a:ext cx="43992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41911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181480" y="2438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planes parallel to plane C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1" descr=""/>
          <p:cNvPicPr/>
          <p:nvPr/>
        </p:nvPicPr>
        <p:blipFill>
          <a:blip r:embed="rId1"/>
          <a:stretch/>
        </p:blipFill>
        <p:spPr>
          <a:xfrm>
            <a:off x="852480" y="2362320"/>
            <a:ext cx="4100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181480" y="2438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planes parallel to plane C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638680" y="37339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ne BAH (or any plane with BAH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0" descr=""/>
          <p:cNvPicPr/>
          <p:nvPr/>
        </p:nvPicPr>
        <p:blipFill>
          <a:blip r:embed="rId1"/>
          <a:stretch/>
        </p:blipFill>
        <p:spPr>
          <a:xfrm>
            <a:off x="812880" y="2343240"/>
            <a:ext cx="41400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181480" y="25146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intersection of plane AHE and plane C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4114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181480" y="25146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intersection of plane AHE and plane C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7"/>
          <p:cNvGraphicFramePr/>
          <p:nvPr/>
        </p:nvGraphicFramePr>
        <p:xfrm>
          <a:off x="6095880" y="4114800"/>
          <a:ext cx="76212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114800"/>
                    <a:ext cx="7621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Picture 18" descr=""/>
          <p:cNvPicPr/>
          <p:nvPr/>
        </p:nvPicPr>
        <p:blipFill>
          <a:blip r:embed="rId3"/>
          <a:stretch/>
        </p:blipFill>
        <p:spPr>
          <a:xfrm>
            <a:off x="838080" y="2362320"/>
            <a:ext cx="41148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181480" y="2438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segments parallel to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7010280" y="281952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267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2:48:25Z</dcterms:created>
  <dc:creator>Jerel Welker</dc:creator>
  <dc:description/>
  <dc:language>en-US</dc:language>
  <cp:lastModifiedBy>Cynthia H. Morgan</cp:lastModifiedBy>
  <dcterms:modified xsi:type="dcterms:W3CDTF">2014-10-23T13:36:21Z</dcterms:modified>
  <cp:revision>64</cp:revision>
  <dc:subject/>
  <dc:title>Parallel Lines and Transversals</dc:title>
</cp:coreProperties>
</file>